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483E-90A5-4066-9AAC-B26E46CBA9EB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5355-EE04-42B7-9EE9-6C7DD16E126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699B-E96D-4316-81E2-C72F30525F1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1107-0961-402E-B512-97A977B10D2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040A-6E9A-44CB-B7AD-647119F8D6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BAA9-E525-4467-9AA3-5C40CB53521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C14A-6B29-487A-8C7A-B538D01060E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C936-1DC6-4271-8BB3-8A4E3C60B73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75E1-B90D-4566-8B1C-FD7911B3058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0A60-20AC-4D55-B185-F59A191F045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9583-CD51-4C5E-A185-29D422E779E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09AC-C9ED-47FF-A405-14C47CF30FC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75E3-AB26-464C-813E-8C7BCE849C4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E69A-E19B-4F0B-8D6F-A7706BE26B8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23FD-5E2F-4758-9C81-4E68245835D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2112-8693-45C0-B9D8-4500FB8669B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639C-6D49-40BA-9A4A-F36E53CA29D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7C9E-E373-4C1F-AF39-C56B4B554E5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665F-92D4-451E-88C8-02449C39124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E42A-FE36-410E-AE02-9917FEE4735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88E7-79A4-44E9-84B0-A88D65FFDD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438D-FC71-4651-864D-1C20771C29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90F8-CFE8-4DE8-8497-0DECE751286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7072-20B8-4649-95E7-6F173442BCE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0729-7A89-46FE-8814-DABBFF2D127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0DD9-FFEE-4DEE-A793-FE195689A12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18A1-1703-4100-8252-6205804E6D0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20A0-AA6C-429D-AE2C-5012A9B9ACB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58F9-FC82-450C-AE2C-B700E966E52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1E50-94B5-40A8-AB8F-E4663BBAB11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8C73-36F0-41A1-A54E-4AD3C408A3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3F47-9D3A-44FC-91AE-36EE81EBA49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5107-B8E9-499D-B2F5-C8911B85EB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DB51-326A-42AB-AEE9-3B1DE16D66F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AC81-950B-4D25-9E26-614933A9E9C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4CB1-2D98-4EA4-B758-BAB0D071E34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EC9B-9B5F-4378-927F-52169D4C0F5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4BFF-E236-4C72-A085-53AD5F823B2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0B22-FD45-4A37-A3A5-642A3CA203D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F46B-38D3-422A-9179-D08FC1F4094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BA5C-891B-4804-A6FA-2FD96E67FBA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6CA4-3D54-497C-A26B-B53C76F9595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6580-6B0C-4D06-8F40-F743AB15DB4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494A-704C-440C-AC20-8E1925BF239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ABA6-78DF-47A3-ADC3-CDF52BEDD3D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4A86-7307-4D21-B426-8930A6C7717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B147-00C1-4AFB-99E8-1CBC067ADF8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29E4-A786-4570-8381-7E5BDAD5AF4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33A2-D503-431A-90A7-7C75790C66B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1731-3680-4291-8201-F78CD3F3B10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C84C-B686-4993-867C-D544D483C09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66CE-BA30-4140-BF64-202F8C5A628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D597-FA88-4949-A3D0-0F063572BDF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FD6B-AC73-476F-A3E8-24A2F90F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FF5-4E22-47B4-AE38-0D72802D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18D-CCD4-495B-AB22-C7D2E97A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0FA-9696-49DD-923C-C9B46BBC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806-482B-4123-9A13-FE3AE056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75D-5A05-4E53-9114-FDE2DB6D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616-8026-4D24-8A39-7348393B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769-1867-4AE7-8FC9-F0700185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A86-A9CF-4141-9E78-852B7F17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EBA-8627-4B1A-84FE-9C22287F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A07-F030-4CBF-B126-367AA89B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553-3C7F-494F-A167-89F0672C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A77E-B28B-4940-ABD2-26CB806B1D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7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FC28-1857-4CC0-8FB5-6BB1FCA4635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A0B3-1974-4696-835E-73DDD1A7471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0631-63C2-4742-AC2C-46C94D149A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8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491D-CBB3-40A8-8CFE-3AEA6C7480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2793-6A43-4D77-8C3E-06478C5EE66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36CB-2F57-4B19-85EB-703387A98A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50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2E6E-7BC2-4951-B702-844B5BC5E6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D3CC-A01F-4906-932A-EEC5515A30C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8" dur="1" fill="hold"/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8060-74C3-4859-9720-3F4C7390DD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9249-C383-44F1-9658-85188B610D6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7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EEE0-14C3-4817-B923-4957B8F815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7E02-6D9D-4FBF-8526-ABE16B2FEB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6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2436-703C-4739-B3C6-998508BAC3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B94C-4FC4-442B-B487-B416D5B646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0F0A-BBFA-4C1F-88D8-33093AC1A2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404E-184F-417E-9B46-9C00257670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B893-2A9F-4E94-920B-974EF8247B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3EA4-FA30-471B-91D7-F2483EAE284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636C-87B4-4D2F-BEC5-C33255612C8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C43F-E118-4314-90A6-D21724744C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B23F-1A36-4FD3-A646-56E0DE64C2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5299-089B-4051-844D-EBA47236044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5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2C3F-0B81-4AF7-BFC3-7066793FCE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44C0-1050-4023-A5DE-9C296EF6608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1F90-1DA6-4D90-8D01-B6F05A10C4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8" dur="1" fill="hold"/>
                                  <p:tgtEl>
                                    <p:spTgt spid="2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BD49-BF7E-4029-8973-FA463684F8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2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50BA-389B-4C02-81F6-60ECC3C137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13B9-3806-4827-80F2-A60E5B6AEB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31FC-F9CD-414B-BF03-E7A204AECF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1E2C-8ADE-4C88-9D14-5D1E66F060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54C8-2EAF-4246-A9F7-C952E3131F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B6E2-94CA-4982-B965-E0DF0C9CCE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C412-1ECD-4126-8C29-6B1D8CE26B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EE45-71C8-4274-9C17-E050AF79E7B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C123-1D2D-4925-BD40-A8CE3AF925E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08AF-7C26-4EF5-A053-061E7E7ABCC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B601-00FA-4195-8C87-43E1A6A5B0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A117-CCF6-47E8-BB05-768EB99F6E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A666-32C7-418F-A8BB-C52920DB73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F6C6-BD2D-414C-A86B-5C8ACD6FD0C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A0A0-7D97-47F3-BE62-D3622A2BAE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32FE-9304-4D25-8C8C-144F581C8EA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936C-F704-4E8A-9054-23D9D32CC1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F2CA-4977-40AB-937B-AD8FDE6A14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0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F5C6-6C89-41D0-8606-03A307CE18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9B38-F5BA-440F-9623-7C829FD0127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73E7-1E8C-4634-BDE2-0BF7C3D1F04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D7C0-00AC-435A-8FDE-044EB75B77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F478-ECC5-4EFA-AE30-6FCB9695AA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3982-13B2-406F-9917-3D4285E9E0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E804-D255-4EE6-AD03-3BA2B53642C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9EE6-02BE-4319-B379-7ED4025C47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6C91-5646-427C-A1D6-DB1D44697E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E93A-A809-4610-AC6B-F07EF39F0B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0F52-AEF3-409B-BA1E-49AD0780A9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D752-ED86-41D8-B182-F36668B05CD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9CC7-2CBF-449D-9714-79ADFB6C7D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9443-5A92-4AD0-8267-2E2D4DB628C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334F-0661-48A4-B8E2-85604F4CDB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3A02-835A-45D4-A2F2-E081D4D15B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6210-8E8C-4B24-8C2C-63E74F82176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0806-2603-4332-A3B7-7199858C222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hursday 2nd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2" name="Picture 5" descr="coversmall"/>
          <p:cNvPicPr/>
          <p:nvPr/>
        </p:nvPicPr>
        <p:blipFill>
          <a:blip r:embed="rId1"/>
          <a:stretch/>
        </p:blipFill>
        <p:spPr>
          <a:xfrm>
            <a:off x="6248520" y="3657600"/>
            <a:ext cx="13716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62E3-A718-41F6-B710-C74FD0D6CC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1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3953-0D98-46FE-9872-DC05D2DF03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3C68-C8EA-45C8-9E86-F95B17411AA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7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0-11-24T15:49:56Z</dcterms:modified>
  <cp:revision>68</cp:revision>
  <dc:subject/>
  <dc:title>Aims and Objectives</dc:title>
</cp:coreProperties>
</file>